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49480" y="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0" y="940896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4948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F6B6-4EAF-4F7E-9807-D28063D868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DCFB-ACAF-4E57-AE03-D82EC39AFA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9E08-FDC8-4ECF-AD50-672B993F11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796E-DBF2-48D3-A551-E51796CAE5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6647-E6BF-4EF6-BA78-379FDB0697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FF67-C657-4FD4-9F24-8C94B8EEF5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8684-11F5-4808-AA4C-672A39AD19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E056-816E-47CD-B6C5-34DFABB792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7190-46B6-4441-8DC2-DA6A46CE25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346E-D94E-426C-A61E-94420039EC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F797-2D7C-4AF0-BCF0-EE6FAF5B78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BB40-B09E-4865-A365-C92DC2D0E8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6519-CC89-46A7-A44F-E1CAE5A42F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7708-60ED-46D3-9B54-143818A084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9569-BCBA-4868-B695-464F27A86B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9068-9B75-484B-AEB0-0CA84F0683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83B6-ADCB-4405-862C-4AC386BA87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6FDE-97F8-4C60-BA38-2462DACD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BB74-E3F1-46AA-857B-238A1A2A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4C3C-C301-49B1-B088-B7CF6985A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C055-B05C-45AC-9A21-0C0C5011C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0E01-0513-4208-83E1-6A72C5266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CEF6-C7ED-4EF3-9606-F93AC0C3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E38F-8393-4075-BCB4-328790CB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B842-6DBE-41E0-948F-A3DAD810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982C-1835-4B1F-8D33-A3AA1363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C5D1-D356-49E3-8297-7E2A6DF0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30FC-30D3-453F-BEF8-90C19DFA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A891-0F2D-4D37-A3E3-DCC0D0E5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553B-6458-4AD7-A35F-3AA2B8EE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4F84-01C2-4412-9286-BD1904A0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657D-B88B-4A9D-A39F-1CA9021C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9B9C-D69A-40D9-950C-760711282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2DEA-0A01-47D7-AA03-B4A152622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35FCD-0924-4569-9CF3-329C0B0F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BF9F1-36C9-4841-BA1C-759798A7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CA358-0077-4BBB-B92C-C978E846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AF601-F18D-4240-86F6-AAF5E2F2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4F517-A1CB-455E-8478-F305D16F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A799-54A1-4BC6-86DD-AAF5F7A8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8F5A1-A9A3-4262-9A3C-D6802777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EDB14-5141-440E-A497-96762B8C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1829F-5CA9-4EE5-9FB7-8608DED1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8987C-C650-4D05-8D67-7C25C20F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7D0EF-E0C9-4D34-BDFD-9B71501E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9F0EF-1D9A-4C77-BEDE-0ED6F5477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19787-036A-4BC6-9BC8-91C2CDFE4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55829-7CF1-47C1-98DA-677D0E9FB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DD56D-4603-4B35-AD0D-8A578C6B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F53F0-37D7-4B08-B1DE-D7FCEFA5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7A5F-F905-464E-9E70-73FBB35A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10536-F237-4AD5-A24C-2BDA9CED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B979C-76E8-4BDD-BA95-38271CE7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B0DD5-A3C8-40BD-B205-12DDA47C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CA4B5-A8C9-4441-AD68-69FE429F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EC251-4FF1-4E3D-8ED3-D5428127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CC9F9-642D-4417-AA41-32C5BD83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4ABE8-7122-4C92-9704-FE3F19B7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249C5-2595-4A03-A392-DAD3559AB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5FDF7-7F99-4D3A-AADE-51F26EECE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5D393-221E-4610-A747-FFB093D8D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7F14-F159-42E7-8F43-59C9F262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C0497-AE26-4B31-B0E7-182F7E82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A6C47-7AEA-40BF-9B00-F3753E23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801EE-D433-437A-913A-B34C2ECE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ED2C1-9A66-4493-A0A6-7589EBB4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46C56-3737-49C0-99AA-6E3B4739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609EE-E30B-4EFA-8350-6D00B722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1401A-3CB3-4F8C-9CAE-CFB57B82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EE09C-4588-443F-A05E-B6663B56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841A3-EEC5-4CEA-9B40-D491067A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661CF-DAB8-4F48-8F26-26340462A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4A2D-E7FA-4FFE-B68E-710907CC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BA59B-AE8D-40D3-A141-8F931C020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53BA0-A3CD-4D82-8F7E-2BDF3521A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4552C-27F2-40C6-AB36-FD7A25DF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099D8-C6D6-45BC-8B74-C26E46C5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7C847-A713-4AE2-85F5-AC3A8542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23F7C-AA29-4DA7-B86E-3BF01405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D6032-EC61-4EBA-8FBF-E45EE96C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142BA-8D9A-4820-A0B4-3E381861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4B4C2-F4D6-4A3B-89DB-43024AFB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7A1E9-4836-46F9-92B7-DDBD195B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054D-1715-48F3-8024-D2CD8534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7E663-DCE3-43E4-A687-AC7F9B40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6C91F-8F4A-497D-A9D0-CF2BC35C8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41BA1-A6C9-4684-B8BA-388A5D2B6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268B7-4E64-4D06-899C-EFDC653C5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4C0E6-9981-4554-8DC8-66BF560B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9C3E7-3F95-4469-A492-AAAFECAB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7417C-7A14-4122-A498-26DDA4F4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7FD52-4560-4D3C-9FF9-5DCB070C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9C294-CE1D-4B9A-9E5E-A60C96C3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EEDB5-DC08-4BBD-8DD8-255E94B1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1172-006A-4026-A73E-5F3BD5C3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65DD5-FCDA-4692-83BF-98D21EDC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84A11-5640-4FF6-B7B9-86E2FA48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6E0F9-771F-472F-90E5-4F6EDB44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2410E-8445-4BA9-913D-54652FAD6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114C5-E3BD-451C-8568-8C62ED117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FA40-0C6F-46E2-8D92-89B9B384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BB9F-B994-4B88-A92A-237C2317EB5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07CB-FB6F-44AA-A038-009375027D2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28D8-D925-4660-9744-0E10E8DABF8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A819-4D8D-4CA4-8A59-B08102E811D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E023-F98E-4FAE-848B-95C6A5EFA74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9600-789C-4C42-83C1-E26D971F471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B361-F982-4A7B-8261-309A5A80E1D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314"/>
                </a:solidFill>
                <a:latin typeface="Tempus Sans ITC"/>
              </a:rPr>
              <a:t>Ethnography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2362320"/>
            <a:ext cx="7407000" cy="22096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Tempus Sans ITC"/>
              </a:rPr>
              <a:t>Shahaduz Zaman Ph.D.</a:t>
            </a:r>
            <a:br>
              <a:rPr sz="2800"/>
            </a:br>
            <a:r>
              <a:rPr b="1" lang="en-US" sz="2800" spc="-1" strike="noStrike">
                <a:solidFill>
                  <a:srgbClr val="572314"/>
                </a:solidFill>
                <a:latin typeface="Tempus Sans ITC"/>
              </a:rPr>
              <a:t>Newcastle University, UK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But how to learn what to watch and listen for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How to  move the level of ordinary looking into rigor of systematic seeing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ill Sans MT"/>
              </a:rPr>
              <a:t>Paris is the the capital of France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  ……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.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People only see what they are       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       prepared to see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An Exercis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Important for Ethnography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Gaining an acce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Taking a ro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http://image.slidesharecdn.com/ethnography1-100531004106-phpapp02/95/slide-3-728.jpg?1275285428"/>
          <p:cNvPicPr/>
          <p:nvPr/>
        </p:nvPicPr>
        <p:blipFill>
          <a:blip r:embed="rId1"/>
          <a:stretch/>
        </p:blipFill>
        <p:spPr>
          <a:xfrm>
            <a:off x="1066680" y="76320"/>
            <a:ext cx="79250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http://image.slidesharecdn.com/ethnography1-100531004106-phpapp02/95/slide-4-728.jpg?1275285428"/>
          <p:cNvPicPr/>
          <p:nvPr/>
        </p:nvPicPr>
        <p:blipFill>
          <a:blip r:embed="rId1"/>
          <a:stretch/>
        </p:blipFill>
        <p:spPr>
          <a:xfrm>
            <a:off x="1066680" y="0"/>
            <a:ext cx="8077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572314"/>
                </a:solidFill>
                <a:latin typeface="Times New Roman"/>
              </a:rPr>
              <a:t>   …………</a:t>
            </a:r>
            <a:r>
              <a:rPr b="0" lang="en-US" sz="4000" spc="-1" strike="noStrike">
                <a:solidFill>
                  <a:srgbClr val="572314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In an ethnographic research   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    the researcher is called </a:t>
            </a:r>
            <a:r>
              <a:rPr b="1" lang="en-US" sz="3200" spc="-1" strike="noStrike">
                <a:solidFill>
                  <a:srgbClr val="572314"/>
                </a:solidFill>
                <a:latin typeface="Times New Roman"/>
              </a:rPr>
              <a:t>‘Participant </a:t>
            </a:r>
            <a:br>
              <a:rPr sz="3200"/>
            </a:br>
            <a:r>
              <a:rPr b="1" lang="en-US" sz="3200" spc="-1" strike="noStrike">
                <a:solidFill>
                  <a:srgbClr val="572314"/>
                </a:solidFill>
                <a:latin typeface="Times New Roman"/>
              </a:rPr>
              <a:t>    Observer’.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 There are various level of    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    observation</a:t>
            </a:r>
            <a:br>
              <a:rPr sz="4000"/>
            </a:br>
            <a:br>
              <a:rPr sz="4000"/>
            </a:b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lete observ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lete participa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bserver as participa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rticipant as observ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Complete Observer:</a:t>
            </a:r>
            <a:r>
              <a:rPr b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will watch the situation without interacting with the day to day activ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Complete Participan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participate completely in all things the people do and will not be known in the community as a researcher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1720" y="1447920"/>
            <a:ext cx="7407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Ethno (People) Graphy (describing/writing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20e04"/>
                </a:solidFill>
                <a:latin typeface="Gill Sans MT"/>
              </a:rPr>
              <a:t>Writing about People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Participant as Observe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will be fully involved in the daily activities but will take time to record observation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Observer as Participan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will primarily watch the situation but will also be involved in activities on a secondary basi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http://image.slidesharecdn.com/ethnography1-100531004106-phpapp02/95/slide-9-728.jpg?1275285428"/>
          <p:cNvPicPr/>
          <p:nvPr/>
        </p:nvPicPr>
        <p:blipFill>
          <a:blip r:embed="rId1"/>
          <a:stretch/>
        </p:blipFill>
        <p:spPr>
          <a:xfrm>
            <a:off x="1295280" y="304920"/>
            <a:ext cx="73915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Open Spac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hopping ma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Restaura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tre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Local baza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Close  Spa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cho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Hospita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Corporate off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Religious centre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fter deciding about th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evel of particip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ur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tes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ments an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cus of observatio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thnographer should enter the setting and start carefully watching and listen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ere is a clue to help you…..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I keep six honest serving men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They taught me all I knew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Their names are What &amp; Why &amp; When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And How &amp; Where &amp; Who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-R. Kipling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572314"/>
                </a:solidFill>
                <a:latin typeface="Gill Sans MT"/>
              </a:rPr>
              <a:t>Observation dimensions: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990720"/>
            <a:ext cx="7499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ER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Space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: Physical layout of the pla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Object: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The physical things that are pres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Actor: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 Ranges of people involv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Act: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Single actions people undertak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Activity: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 A set of related acts that occu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Time: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ime of the day, duratio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Goal :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hings that people are trying to accomplis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Sequence: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 Order of activities and it’s interrel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Observing self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mpression manage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coming invisib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fessional Stranger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136080"/>
            <a:ext cx="74995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434960" y="914040"/>
            <a:ext cx="7499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Unlike interviews, in which  the researcher extracts data from the respondent, the ethnographer selects data from the naturally occurring flow of life.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The idea that we collect data is a bit misleading. Data are not “out there” waiting for collection, like so many rubbish bags on the pavement. For a start they have to be noticed by the researcher, and treated as data for the purpose of his or her research.” Dey (1993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ages of observatio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Grand tour observ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First wonder around the general location keeping the  focus of your study.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Mini tour observ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Then observ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‘</a:t>
            </a: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smaller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’</a:t>
            </a: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issues (space, actor, activity, objects etc)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Selective observ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Finally observe the detail aspects of the setting according to your study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Defining ethnography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914040"/>
            <a:ext cx="7499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thnography is the art and science of describing a group or culture. ……..The ethnographer is interested in understanding and describing a social and cultural scene from the emic or insider’s perspective. The ethnographer is both story teller and scientist.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(Fetternam:1998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thnography is a method of research in which the researcher participates overtly or covertly, in people’s daily live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atching what happe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stening to what is being sai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king questions (Hamersley &amp; Atkinson: 2006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572314"/>
                </a:solidFill>
                <a:latin typeface="Gill Sans MT"/>
              </a:rPr>
              <a:t>It is crucial to keep observation notes</a:t>
            </a:r>
            <a:endParaRPr b="0" lang="en-US" sz="31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Cryptic Jotting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Record key words and key phrases while in the field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Detailed descrip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Write full notes immediately after exiting the fiel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Analytical notes (Memo)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Describe your feelings, ideas, moments of confusion, and interpretations about what is observed.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Skills of participant observant: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Building explicit awareness of little details of lif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Building memo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aintaining Naiveté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Building writing skil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‘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Empathic Neutrality’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Enter into the world. Observe and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wonder. Experience and reflect. To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understand a world you must become a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part of that world while at the same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ime remaining separate, a part of and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apart from. 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1" i="1" lang="en-US" sz="2400" spc="-1" strike="noStrike">
                <a:solidFill>
                  <a:srgbClr val="572314"/>
                </a:solidFill>
                <a:latin typeface="Gill Sans MT"/>
              </a:rPr>
              <a:t>Indian Sufi Saying </a:t>
            </a:r>
            <a:r>
              <a:rPr b="1" i="1" lang="en-US" sz="2400" spc="-1" strike="noStrike">
                <a:solidFill>
                  <a:srgbClr val="572314"/>
                </a:solidFill>
                <a:latin typeface="Gill Sans MT"/>
              </a:rPr>
              <a:t>	</a:t>
            </a: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New Styles of Ethnography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Videography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Auto ethnograph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Netnograph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Referenc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Atkinson P, Coffey A, Delamont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, Lofland J, Lofland L, eds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Handbook of ethnography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London: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age, 2001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Dey, Ian. 1993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Qualitative data analysis. London: Routledg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Fetterman D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Ethnography: step by step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2nd ed.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London: Sage, 1988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Hammersley M, Atkinson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P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Ethnography: principles in practice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2nd ed. London: Routledge,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1995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97920"/>
            <a:ext cx="74995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685800"/>
            <a:ext cx="7499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Ethnography is a methodology with more than 100 years of histor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It arose in the Western world as form of knowledge about distant cultures(typically non-Western culture)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This was historically a colonial metho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Changed over time: ‘Anthropology at home’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72314"/>
                </a:solidFill>
                <a:latin typeface="Gill Sans MT"/>
              </a:rPr>
              <a:t>Malinowski in New Guinea (1916)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4" name="Content Placeholder 3" descr="Malinowski.bmp"/>
          <p:cNvPicPr/>
          <p:nvPr/>
        </p:nvPicPr>
        <p:blipFill>
          <a:blip r:embed="rId1"/>
          <a:stretch/>
        </p:blipFill>
        <p:spPr>
          <a:xfrm>
            <a:off x="1905120" y="1981080"/>
            <a:ext cx="6629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6" name="Content Placeholder 3" descr="Fieldwork.bmp"/>
          <p:cNvPicPr/>
          <p:nvPr/>
        </p:nvPicPr>
        <p:blipFill>
          <a:blip r:embed="rId1"/>
          <a:stretch/>
        </p:blipFill>
        <p:spPr>
          <a:xfrm>
            <a:off x="1905120" y="1600200"/>
            <a:ext cx="6095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Ethnographic methodology gives priority to observation as it’s primary source of information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In other words, it’s a knowledge gathering process through observatio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ny professional work is dependent upon the powers of observation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Why do we need to observe in ethnography?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900"/>
            </a:br>
            <a:br>
              <a:rPr sz="2900"/>
            </a:br>
            <a:endParaRPr b="0" lang="en-US" sz="2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Observational method provide data on what people do, as well as what they say they do.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It helps to get an inside view of everyday realit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ives chance to learn things that people are unwilling to talk in interview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17:15:32Z</dcterms:created>
  <dc:creator>Neeor</dc:creator>
  <dc:description/>
  <dc:language>en-US</dc:language>
  <cp:lastModifiedBy>Zaman</cp:lastModifiedBy>
  <dcterms:modified xsi:type="dcterms:W3CDTF">2013-12-11T21:35:34Z</dcterms:modified>
  <cp:revision>96</cp:revision>
  <dc:subject/>
  <dc:title>Ethnography  Describing people in their natural setting</dc:title>
</cp:coreProperties>
</file>